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B2A-E10D-4635-980A-7CA5CE6B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317-F6E7-4B59-8DFD-AC45A1E3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FD8-AF74-49A3-A422-DFD5F517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9B6-5555-4EF4-9431-51EBB010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545-864C-4665-BF5E-9A3A048C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416-46F8-4D61-8AA1-4D97A86D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3F5-1CA3-43DD-9374-3A124EF7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554-25A5-4A3A-8070-39B2D2E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E31-7276-4834-BE7E-2058DC36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F45-97FD-49ED-9E94-1F8375F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081-C7FE-492F-B9ED-7B8C164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00F-D33E-4568-BF26-7E95FEF8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74E-7582-4788-A3F2-FDD323456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ase-Control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181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7339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4648320"/>
            <a:ext cx="6705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239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01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39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2378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7391520" cy="121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91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21720" y="1447920"/>
            <a:ext cx="244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mall s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97180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19320" y="4419720"/>
            <a:ext cx="4038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038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40384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22860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3600" y="3200400"/>
            <a:ext cx="1905120" cy="99072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438280" y="4724280"/>
            <a:ext cx="3962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10:54Z</dcterms:modified>
  <cp:revision>41</cp:revision>
  <dc:subject/>
  <dc:title>PowerPoint Presentation</dc:title>
</cp:coreProperties>
</file>